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B33-B2FA-433F-A9FC-58E7F91A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0A3-32B7-4519-9A15-4F82AA8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1E1-7C87-480A-A9BE-80CA06CD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F12-5154-4B4E-867E-B199280E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4AD-7D5D-45B0-94FC-D05956EB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CAF-C850-4EE0-9DF5-21C45F4E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F75-0E0D-42D7-8DFA-421B746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86C9-5FA1-45A3-942E-551BD72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C27E-B8C3-41F5-9816-7F13A28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F4F2-651F-4479-AE76-0FCB465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02F2-F26E-47D6-A3A5-0BAC616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E27-9BBB-4BBE-82DC-16BF0042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0A9-1AF1-4B9E-A954-1C31E0C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42A8-158D-4F92-A942-27FD370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0D0A-536E-46E4-B92D-01915EC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9E77-0AE7-4014-95C6-F75C014D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A9BD-DB08-4F5B-BC75-44A6212F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793-0B48-41AA-A9F7-3D44A66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9C2-5120-4D96-AC8D-1B7A66E9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F48-6C44-4E87-9527-61566FC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68C-A03C-4E3D-A069-AAB7AB2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17E-18CE-42DE-A83E-30E882E5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523-298A-4BCC-AF16-6D00F12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DB0-B349-4146-805D-4E2E113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3DF-3502-4A19-A827-DAB6955F65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ae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ae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E57-1C53-4BAF-B84C-133E36DCC5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II</a:t>
            </a: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Денежная реформа 1698 – 1704 годов </a:t>
            </a:r>
            <a:br>
              <a:rPr sz="3800"/>
            </a:b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     Петр </a:t>
            </a: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</a:t>
            </a:r>
            <a:endParaRPr b="0" lang="en-US" sz="3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В основу денежной системы был положен единственный принцип – десятичный (действует до сих по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7e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527e5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527e56"/>
                </a:solidFill>
                <a:latin typeface="Arial"/>
              </a:rPr>
              <a:t>В 1700 - 1804 г. выпущена се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Серебряных монет –  1 руб. (весом -28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50 коп; 25коп; 10 коп; 5 коп; 3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738360" y="1609560"/>
            <a:ext cx="3925800" cy="291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21580" t="60818" r="0" b="4730"/>
          <a:stretch/>
        </p:blipFill>
        <p:spPr>
          <a:xfrm>
            <a:off x="755640" y="4565520"/>
            <a:ext cx="4032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Новая форма денег </a:t>
            </a:r>
            <a:br>
              <a:rPr sz="3800"/>
            </a:b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при Екатерине </a:t>
            </a: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I</a:t>
            </a: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-1769 год.</a:t>
            </a:r>
            <a:endParaRPr b="0" lang="en-US" sz="3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7e56"/>
                </a:solidFill>
                <a:latin typeface="Arial"/>
              </a:rPr>
              <a:t>В 1769 г. ассигнационными банками в Москве и Санкт - Петербурге в обращение были выпущены первые российские бумажные денежные знаки – </a:t>
            </a:r>
            <a:r>
              <a:rPr b="1" i="1" lang="ru-RU" sz="2400" spc="-1" strike="noStrike" u="sng">
                <a:solidFill>
                  <a:srgbClr val="527e56"/>
                </a:solidFill>
                <a:uFillTx/>
                <a:latin typeface="Arial"/>
              </a:rPr>
              <a:t>ассиг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44160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56Z</dcterms:modified>
  <cp:revision>36</cp:revision>
  <dc:subject/>
  <dc:title>Денежные реформы России</dc:title>
</cp:coreProperties>
</file>